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C000C-5E9A-4076-8208-4B96CA3F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B1472-796D-4D4E-99D9-7D86D9E8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2315-DE14-4EF6-BFF2-680A51A7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7C274-EADF-4A2D-9E50-7FC42B83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63A2-6143-4EB5-AF55-02A40EEF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36D1-825A-47EC-9030-A8794D82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69AF-387B-4545-A0B8-252D47C0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A2FC-5CD2-429C-97FE-71BFEEF0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0BFB-240B-4069-B695-ABC21399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8272-3294-4501-9824-BCD5EBEA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D4E7-2A17-45CB-8517-A3285988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B2CC6-A2E6-4BC2-A8B5-A4B42854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6EA4-5FF7-472C-987D-E3773FF8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1BAA-7AA5-493D-AEF0-6D64A9DC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787C-C516-4E28-B07D-E7AA32E8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C736-DE1F-4CC5-BFE3-0DD4EAB1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728B-9B74-4ADD-AF29-2939CD8E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FA927-D815-4B0F-9450-239807A5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E7733-0359-4C56-AEB5-642D191D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21932-311F-40C5-9A27-8F5823F3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959CB-23AD-4286-A117-1A2B50BC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CED5D-4D4D-47A0-81A3-BC4D069B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A23FA-6362-4245-ADF6-A6AC9953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15A48-80EF-4E88-AA7A-4C3460D0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95F5-916C-4B75-A60E-A94D8869155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457F-EEB5-4E57-A74F-C496FA3F17A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91520"/>
            <a:ext cx="8928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21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88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Бог във Сион царува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Му се посвети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днес през целия живо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ед Него да върви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дойде Той, ще вземе на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лавни небеса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газ пред Него ще стои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видим чудес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Нека цял свят се радва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царува Бог в Сно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лате да припаднем 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 славния Му тро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радост Го хвалет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пейте ден и нощ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Царе, отдайте вий покло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 чудната Му мощ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Във цялата вселе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динствен Той е Цар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земи, моря и небеса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й-мощен Господа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нчайте Го със слав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дайте Нему чес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сете в целнй земен шар спасителната вест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11:15Z</dcterms:modified>
  <cp:revision>70</cp:revision>
  <dc:subject/>
  <dc:title>Slide 1</dc:title>
</cp:coreProperties>
</file>